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0E3B77-4E7F-4F82-9D77-1371DB3A8A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1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735-2947-4767-8706-E8CBED12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98F-6E23-44C3-B4BB-FD1B60CA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57E-6951-43E3-A91A-0B596D9E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902-4723-4166-9E39-2DFD2C6F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AB06-C333-4558-8960-E35A3BBC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7299-D651-476E-99AD-4F1F953C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2E9-DAF5-42F8-B496-537181E8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715-F485-40CC-92A8-BEB214CE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31E-FA4A-40B5-8FD6-896EE344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D13-B974-476F-83AA-2A8B8626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E697-DD18-418E-B60A-AD5D702C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0F5-64E0-4BEE-9C97-C24B598C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9CC9DF-44FA-484C-BB51-54277ED39F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00"/>
                </a:solidFill>
                <a:latin typeface="Arial"/>
              </a:rPr>
              <a:t>¿Qué construye una ciud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581280"/>
            <a:ext cx="91440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99cc00"/>
                </a:solidFill>
                <a:latin typeface="Arial"/>
              </a:rPr>
              <a:t>Forma </a:t>
            </a:r>
            <a:r>
              <a:rPr b="0" lang="en-GB" sz="4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GB" sz="4800" spc="-1" strike="noStrike">
                <a:solidFill>
                  <a:srgbClr val="99cc00"/>
                </a:solidFill>
                <a:latin typeface="Arial"/>
              </a:rPr>
              <a:t>Fun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533520"/>
            <a:ext cx="4114800" cy="2438280"/>
            <a:chOff x="380880" y="533520"/>
            <a:chExt cx="4114800" cy="2438280"/>
          </a:xfrm>
        </p:grpSpPr>
        <p:sp>
          <p:nvSpPr>
            <p:cNvPr id="52" name=""/>
            <p:cNvSpPr/>
            <p:nvPr/>
          </p:nvSpPr>
          <p:spPr>
            <a:xfrm>
              <a:off x="380880" y="533520"/>
              <a:ext cx="4114800" cy="2438280"/>
            </a:xfrm>
            <a:prstGeom prst="wedgeRoundRectCallout">
              <a:avLst>
                <a:gd name="adj1" fmla="val -10879"/>
                <a:gd name="adj2" fmla="val 7063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5800" y="762120"/>
              <a:ext cx="3429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La ordenación espacial y forma física de una ciudad.  Podéis verlo usando mapas de Goog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800600" y="533520"/>
            <a:ext cx="3886200" cy="2438280"/>
            <a:chOff x="4800600" y="533520"/>
            <a:chExt cx="3886200" cy="2438280"/>
          </a:xfrm>
        </p:grpSpPr>
        <p:sp>
          <p:nvSpPr>
            <p:cNvPr id="55" name=""/>
            <p:cNvSpPr/>
            <p:nvPr/>
          </p:nvSpPr>
          <p:spPr>
            <a:xfrm>
              <a:off x="4800600" y="533520"/>
              <a:ext cx="3886200" cy="2438280"/>
            </a:xfrm>
            <a:prstGeom prst="wedgeRoundRectCallout">
              <a:avLst>
                <a:gd name="adj1" fmla="val -15643"/>
                <a:gd name="adj2" fmla="val 7369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57800" y="990720"/>
              <a:ext cx="3124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Los trabajos que cada una de las partes de una ciudad hacen para que ésta func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85800" y="51055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8000"/>
                </a:solidFill>
                <a:latin typeface="Arial"/>
              </a:rPr>
              <a:t>¿Qué ocurre en la forma y función de una ciudad para que sea diferente al resto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3581280"/>
            <a:ext cx="91440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99cc00"/>
                </a:solidFill>
                <a:latin typeface="Arial"/>
              </a:rPr>
              <a:t>Forma </a:t>
            </a:r>
            <a:r>
              <a:rPr b="0" lang="en-GB" sz="4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GB" sz="4800" spc="-1" strike="noStrike">
                <a:solidFill>
                  <a:srgbClr val="99cc00"/>
                </a:solidFill>
                <a:latin typeface="Arial"/>
              </a:rPr>
              <a:t>Fun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0880" y="990720"/>
            <a:ext cx="4114800" cy="1930320"/>
            <a:chOff x="380880" y="990720"/>
            <a:chExt cx="4114800" cy="1930320"/>
          </a:xfrm>
        </p:grpSpPr>
        <p:sp>
          <p:nvSpPr>
            <p:cNvPr id="60" name=""/>
            <p:cNvSpPr/>
            <p:nvPr/>
          </p:nvSpPr>
          <p:spPr>
            <a:xfrm>
              <a:off x="380880" y="990720"/>
              <a:ext cx="4114800" cy="1930320"/>
            </a:xfrm>
            <a:prstGeom prst="wedgeRoundRectCallout">
              <a:avLst>
                <a:gd name="adj1" fmla="val -10879"/>
                <a:gd name="adj2" fmla="val 70638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1173240"/>
              <a:ext cx="3429000" cy="1572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iseño planifi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recimiento orgán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800600" y="990720"/>
            <a:ext cx="3886200" cy="1981080"/>
            <a:chOff x="4800600" y="990720"/>
            <a:chExt cx="3886200" cy="1981080"/>
          </a:xfrm>
        </p:grpSpPr>
        <p:sp>
          <p:nvSpPr>
            <p:cNvPr id="63" name=""/>
            <p:cNvSpPr/>
            <p:nvPr/>
          </p:nvSpPr>
          <p:spPr>
            <a:xfrm>
              <a:off x="4800600" y="990720"/>
              <a:ext cx="3886200" cy="1981080"/>
            </a:xfrm>
            <a:prstGeom prst="wedgeRoundRectCallout">
              <a:avLst>
                <a:gd name="adj1" fmla="val -15643"/>
                <a:gd name="adj2" fmla="val 73717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57800" y="1219320"/>
              <a:ext cx="3124080" cy="1572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Zonific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ezcla de u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-360" y="3581280"/>
            <a:ext cx="853452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99cc00"/>
                </a:solidFill>
                <a:latin typeface="Arial"/>
              </a:rPr>
              <a:t>Planificada </a:t>
            </a:r>
            <a:r>
              <a:rPr b="0" lang="en-GB" sz="4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GB" sz="4800" spc="-1" strike="noStrike">
                <a:solidFill>
                  <a:srgbClr val="99cc00"/>
                </a:solidFill>
                <a:latin typeface="Arial"/>
              </a:rPr>
              <a:t>V  Orgán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80880" y="533520"/>
            <a:ext cx="4119840" cy="2922480"/>
            <a:chOff x="380880" y="533520"/>
            <a:chExt cx="4119840" cy="2922480"/>
          </a:xfrm>
        </p:grpSpPr>
        <p:sp>
          <p:nvSpPr>
            <p:cNvPr id="67" name=""/>
            <p:cNvSpPr/>
            <p:nvPr/>
          </p:nvSpPr>
          <p:spPr>
            <a:xfrm>
              <a:off x="380880" y="533520"/>
              <a:ext cx="4119840" cy="2867040"/>
            </a:xfrm>
            <a:prstGeom prst="wedgeRoundRectCallout">
              <a:avLst>
                <a:gd name="adj1" fmla="val -10879"/>
                <a:gd name="adj2" fmla="val 7063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5800" y="801720"/>
              <a:ext cx="34336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Un plan se hace antes de que se construya. Hay muchas “ciudades ideales” y partes de esas ciudades se han construido en base a un “Plan General”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800600" y="533520"/>
            <a:ext cx="4200480" cy="2827080"/>
            <a:chOff x="4800600" y="533520"/>
            <a:chExt cx="4200480" cy="2827080"/>
          </a:xfrm>
        </p:grpSpPr>
        <p:sp>
          <p:nvSpPr>
            <p:cNvPr id="70" name=""/>
            <p:cNvSpPr/>
            <p:nvPr/>
          </p:nvSpPr>
          <p:spPr>
            <a:xfrm>
              <a:off x="4800600" y="533520"/>
              <a:ext cx="4200480" cy="2827080"/>
            </a:xfrm>
            <a:prstGeom prst="wedgeRoundRectCallout">
              <a:avLst>
                <a:gd name="adj1" fmla="val -18208"/>
                <a:gd name="adj2" fmla="val 5670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94160" y="1063800"/>
              <a:ext cx="33768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La ciudad crece y cambia según las necesidades de cada época. Hay pocas evidencias de un planeamiento “lógico”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85800" y="51055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8000"/>
                </a:solidFill>
                <a:latin typeface="Arial"/>
              </a:rPr>
              <a:t>La mayoría de ciudades tiene una mezcla de crecimiento orgánico y planifi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14400" y="3581280"/>
            <a:ext cx="784872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Arial"/>
              </a:rPr>
              <a:t>Zonificación     V</a:t>
            </a:r>
            <a:r>
              <a:rPr b="0" lang="en-GB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99cc00"/>
                </a:solidFill>
                <a:latin typeface="Arial"/>
              </a:rPr>
              <a:t>   Mezcla de u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920" y="380880"/>
            <a:ext cx="4114800" cy="3095640"/>
            <a:chOff x="304920" y="380880"/>
            <a:chExt cx="4114800" cy="3095640"/>
          </a:xfrm>
        </p:grpSpPr>
        <p:sp>
          <p:nvSpPr>
            <p:cNvPr id="75" name=""/>
            <p:cNvSpPr/>
            <p:nvPr/>
          </p:nvSpPr>
          <p:spPr>
            <a:xfrm>
              <a:off x="304920" y="380880"/>
              <a:ext cx="4114800" cy="2671920"/>
            </a:xfrm>
            <a:prstGeom prst="wedgeRoundRectCallout">
              <a:avLst>
                <a:gd name="adj1" fmla="val -10879"/>
                <a:gd name="adj2" fmla="val 7063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80" y="631800"/>
              <a:ext cx="342900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La ciudad se encuentra dividida en distintas áreas.  Cada zona contiene diferentes funciones para la ciu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800600" y="685800"/>
            <a:ext cx="3886200" cy="1447920"/>
            <a:chOff x="4800600" y="685800"/>
            <a:chExt cx="3886200" cy="1447920"/>
          </a:xfrm>
        </p:grpSpPr>
        <p:sp>
          <p:nvSpPr>
            <p:cNvPr id="78" name=""/>
            <p:cNvSpPr/>
            <p:nvPr/>
          </p:nvSpPr>
          <p:spPr>
            <a:xfrm>
              <a:off x="4800600" y="685800"/>
              <a:ext cx="3886200" cy="1447920"/>
            </a:xfrm>
            <a:prstGeom prst="wedgeRoundRectCallout">
              <a:avLst>
                <a:gd name="adj1" fmla="val -15643"/>
                <a:gd name="adj2" fmla="val 7369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57800" y="822240"/>
              <a:ext cx="312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odas las funciones de la ciudad están mezcladas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900000" y="45608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8000"/>
                </a:solidFill>
                <a:latin typeface="Arial"/>
              </a:rPr>
              <a:t>La mayoría de ciudades tiene una mezcla de crecimiento orgánico y planificado . Las ciudades y las ideas cambian con el tiemp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23440"/>
            <a:ext cx="8610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99cc00"/>
                </a:solidFill>
                <a:latin typeface="Arial"/>
              </a:rPr>
              <a:t>¿Cuáles son las funciones en una ciu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010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Comercio y nego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Entretenimiento / 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Educación / aprendiz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Infraestructuras de comun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Salud y biene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Servi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Fábricas / indus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cc00"/>
                </a:solidFill>
                <a:latin typeface="Arial"/>
              </a:rPr>
              <a:t>¿Qué es una ciudad sosten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010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Comercio y nego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Entretenimiento / 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Educación / aprendiz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Infraestructuras de comun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Salud y biene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Servi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Fábricas / indus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Lashley</dc:creator>
  <dc:description/>
  <dc:language>en-US</dc:language>
  <cp:lastModifiedBy> Pedropozo</cp:lastModifiedBy>
  <cp:revision>0</cp:revision>
  <dc:subject/>
  <dc:title>What makes a City?</dc:title>
</cp:coreProperties>
</file>